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20FB-8E58-4444-82C7-1F7C21EA8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0EC6-CD55-496C-906D-E43FE689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DD21-C879-4C04-B058-4F0571F35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C4AE-86D5-4F87-B89F-C63B529B9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3C89-2FE7-4FE6-841C-58EE79C1D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7F55-4A96-40D4-A7C0-BB3C03F8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1555-0C24-4BC7-9D58-1286E80F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9925-F8D7-49A8-8CD3-DBA676B1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5908C-C8EA-43F5-8745-341050C7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AD45-8EA8-49FA-B243-968DAA0D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F3FC-FE2A-434A-9767-556B25D6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BD1F-E43B-4AE7-A23A-C298EB3F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BD3F-A9BE-4EBB-A0AD-08DBB42D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C1D7-D04C-40D9-92FA-2C706DBA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504F-6A88-4D46-B71A-4A6BE419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6292-4F47-4C3A-8B5E-532AAE9EB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D815-EF61-4631-8DD2-27688E58A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38F5-9C63-4799-8E7A-C658F9D4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E585-2041-4E5F-BC16-9E20F305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B695-FFB3-4DD0-B46B-13D8EDF6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41DA-B38B-41A9-A1CA-B05C2AF6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5CC1-283E-4362-9090-593573F5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E209-EF88-40B5-9CF8-99B3CAB4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5E5E-13A0-44B2-BC31-AD8E4F75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924A-0B33-44B2-8F29-BF554B152819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149C-3F14-4BE6-BF6D-943420B8B4B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6461-72EE-4FCE-B694-EB4FF87DA0E8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6D06-F08C-4B49-9840-5C4FA02414E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2933-445E-487C-9223-4DB84A380EF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763280" y="2781000"/>
            <a:ext cx="738036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个性与消费者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自我概念与消费者行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生活方式与消费者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79280" y="765000"/>
            <a:ext cx="896472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c0000"/>
                </a:solidFill>
                <a:latin typeface="黑体"/>
                <a:ea typeface="黑体"/>
              </a:rPr>
              <a:t>第四章 消费者的个性、自我概念与生活方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239D-B339-403F-BB5A-33B35BE22E1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自我概念的理论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矩形 7"/>
          <p:cNvSpPr/>
          <p:nvPr/>
        </p:nvSpPr>
        <p:spPr>
          <a:xfrm>
            <a:off x="539640" y="1052640"/>
            <a:ext cx="7848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形象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品形象一致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2" name="组合 351"/>
          <p:cNvGrpSpPr/>
          <p:nvPr/>
        </p:nvGrpSpPr>
        <p:grpSpPr>
          <a:xfrm>
            <a:off x="611280" y="2276640"/>
            <a:ext cx="7345440" cy="3097080"/>
            <a:chOff x="611280" y="2276640"/>
            <a:chExt cx="7345440" cy="3097080"/>
          </a:xfrm>
        </p:grpSpPr>
        <p:sp>
          <p:nvSpPr>
            <p:cNvPr id="213" name="矩形 27"/>
            <p:cNvSpPr/>
            <p:nvPr/>
          </p:nvSpPr>
          <p:spPr>
            <a:xfrm>
              <a:off x="611280" y="2276640"/>
              <a:ext cx="7345440" cy="30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14" name="Group 313"/>
            <p:cNvGrpSpPr/>
            <p:nvPr/>
          </p:nvGrpSpPr>
          <p:grpSpPr>
            <a:xfrm>
              <a:off x="1830600" y="2276640"/>
              <a:ext cx="5003640" cy="2909160"/>
              <a:chOff x="1830600" y="2276640"/>
              <a:chExt cx="5003640" cy="2909160"/>
            </a:xfrm>
          </p:grpSpPr>
          <p:sp>
            <p:nvSpPr>
              <p:cNvPr id="215" name="Rectangle 314"/>
              <p:cNvSpPr/>
              <p:nvPr/>
            </p:nvSpPr>
            <p:spPr>
              <a:xfrm>
                <a:off x="3567960" y="4437000"/>
                <a:ext cx="141300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象征产品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Rectangle 315"/>
              <p:cNvSpPr/>
              <p:nvPr/>
            </p:nvSpPr>
            <p:spPr>
              <a:xfrm>
                <a:off x="3868920" y="2276640"/>
                <a:ext cx="81072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" name="Rectangle 316"/>
              <p:cNvSpPr/>
              <p:nvPr/>
            </p:nvSpPr>
            <p:spPr>
              <a:xfrm>
                <a:off x="1830600" y="2535840"/>
                <a:ext cx="111168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自我概念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" name="Rectangle 317"/>
              <p:cNvSpPr/>
              <p:nvPr/>
            </p:nvSpPr>
            <p:spPr>
              <a:xfrm>
                <a:off x="5606640" y="2535840"/>
                <a:ext cx="122760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参照群体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2340000" y="3284280"/>
                <a:ext cx="1227960" cy="1527120"/>
                <a:chOff x="2340000" y="3284280"/>
                <a:chExt cx="1227960" cy="1527120"/>
              </a:xfrm>
            </p:grpSpPr>
            <p:cxnSp>
              <p:nvCxnSpPr>
                <p:cNvPr id="220" name="AutoShape 318"/>
                <p:cNvCxnSpPr/>
                <p:nvPr/>
              </p:nvCxnSpPr>
              <p:spPr>
                <a:xfrm>
                  <a:off x="2340000" y="3284280"/>
                  <a:ext cx="1228320" cy="15274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1" name=""/>
                <p:cNvSpPr txBox="1"/>
                <p:nvPr/>
              </p:nvSpPr>
              <p:spPr>
                <a:xfrm rot="16200000">
                  <a:off x="2190240" y="3434040"/>
                  <a:ext cx="1526760" cy="122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2941920" y="2909880"/>
                <a:ext cx="2664360" cy="720"/>
                <a:chOff x="2941920" y="2909880"/>
                <a:chExt cx="2664360" cy="720"/>
              </a:xfrm>
            </p:grpSpPr>
            <p:cxnSp>
              <p:nvCxnSpPr>
                <p:cNvPr id="223" name="AutoShape 319"/>
                <p:cNvCxnSpPr/>
                <p:nvPr/>
              </p:nvCxnSpPr>
              <p:spPr>
                <a:xfrm flipH="1">
                  <a:off x="2941920" y="2909880"/>
                  <a:ext cx="2664720" cy="10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4" name=""/>
                <p:cNvSpPr txBox="1"/>
                <p:nvPr/>
              </p:nvSpPr>
              <p:spPr>
                <a:xfrm>
                  <a:off x="2942280" y="2909880"/>
                  <a:ext cx="266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4980600" y="3284280"/>
                <a:ext cx="1227960" cy="1527120"/>
                <a:chOff x="4980600" y="3284280"/>
                <a:chExt cx="1227960" cy="1527120"/>
              </a:xfrm>
            </p:grpSpPr>
            <p:cxnSp>
              <p:nvCxnSpPr>
                <p:cNvPr id="226" name="AutoShape 320"/>
                <p:cNvCxnSpPr/>
                <p:nvPr/>
              </p:nvCxnSpPr>
              <p:spPr>
                <a:xfrm flipH="1">
                  <a:off x="4980600" y="3284280"/>
                  <a:ext cx="1228320" cy="15274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7" name=""/>
                <p:cNvSpPr txBox="1"/>
                <p:nvPr/>
              </p:nvSpPr>
              <p:spPr>
                <a:xfrm rot="5400000">
                  <a:off x="4831200" y="3433680"/>
                  <a:ext cx="1526760" cy="122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28" name="Rectangle 321"/>
              <p:cNvSpPr/>
              <p:nvPr/>
            </p:nvSpPr>
            <p:spPr>
              <a:xfrm>
                <a:off x="2525400" y="4177800"/>
                <a:ext cx="83376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Rectangle 322"/>
              <p:cNvSpPr/>
              <p:nvPr/>
            </p:nvSpPr>
            <p:spPr>
              <a:xfrm>
                <a:off x="5189400" y="4177800"/>
                <a:ext cx="92664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30" name="Rectangle 39"/>
          <p:cNvSpPr/>
          <p:nvPr/>
        </p:nvSpPr>
        <p:spPr>
          <a:xfrm>
            <a:off x="1403280" y="5517360"/>
            <a:ext cx="60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象征产品在自我与他人之间的沟通作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42B7-E395-419B-ABBD-B4AC6D4E403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6560" y="142920"/>
            <a:ext cx="7216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自我概念的营销启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908000" y="1915920"/>
            <a:ext cx="67788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新产品开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7AF0-6817-45C6-9030-6553B059EA4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四、自我概念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28280"/>
            <a:ext cx="86868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自我概念的常用工具是语义差别量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美国学者马赫塔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N. K. Malhotr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设计了一种既可以测量自我概念，又可以衡量产品形象的语义差别量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该量表是由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双极形容词组成的一个语义区分量表。该量表可以获得消费者所期望的产品形象方面的信息，也可以了解消费者对现在产品的评价，从而找出产品形象改进的方向，更好地满足消费者需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76EF-BF52-493F-BAF1-1C14F53DBAF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755640" y="38160"/>
            <a:ext cx="7056360" cy="681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5781-4B8B-4AA4-AB78-52AC12831DD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生活方式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619280" y="1719360"/>
            <a:ext cx="7067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生活方式的含义与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生活方式的测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生活方式的营销启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61CE-649F-4050-ACA8-940A63F9B41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生活方式的含义与特征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39640" y="1196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活方式含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们以活动、兴趣和观点的形式表现出来的在世界上的生活模式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菲利普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科特勒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活方式的特点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Feldman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&amp; Thielbar, 197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是一种群体现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覆盖了生活的各个方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反映了一个人的核心生活利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在不同人口统计变量上表现出差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7CF0-E7AE-4FF4-A14D-7100E101871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生活方式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547280" y="1719360"/>
            <a:ext cx="7139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IO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-IC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na--Val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模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D461-4530-4E93-AF7D-0402B42123A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5676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IO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7" name="Picture 5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16960" cy="4465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934C-F351-4341-A22E-06F641DE265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ALS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61" name="Group 4"/>
          <p:cNvGrpSpPr/>
          <p:nvPr/>
        </p:nvGrpSpPr>
        <p:grpSpPr>
          <a:xfrm>
            <a:off x="539640" y="1628640"/>
            <a:ext cx="8342280" cy="4248360"/>
            <a:chOff x="539640" y="1628640"/>
            <a:chExt cx="8342280" cy="4248360"/>
          </a:xfrm>
        </p:grpSpPr>
        <p:sp>
          <p:nvSpPr>
            <p:cNvPr id="262" name="AutoShape 5"/>
            <p:cNvSpPr/>
            <p:nvPr/>
          </p:nvSpPr>
          <p:spPr>
            <a:xfrm>
              <a:off x="539640" y="1628640"/>
              <a:ext cx="8342280" cy="42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63" name="Group 6"/>
            <p:cNvGrpSpPr/>
            <p:nvPr/>
          </p:nvGrpSpPr>
          <p:grpSpPr>
            <a:xfrm>
              <a:off x="732600" y="2020680"/>
              <a:ext cx="7699680" cy="3587400"/>
              <a:chOff x="732600" y="2020680"/>
              <a:chExt cx="7699680" cy="3587400"/>
            </a:xfrm>
          </p:grpSpPr>
          <p:sp>
            <p:nvSpPr>
              <p:cNvPr id="264" name="Line 7"/>
              <p:cNvSpPr/>
              <p:nvPr/>
            </p:nvSpPr>
            <p:spPr>
              <a:xfrm>
                <a:off x="1392840" y="2020680"/>
                <a:ext cx="1080" cy="318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" name="Rectangle 8"/>
              <p:cNvSpPr/>
              <p:nvPr/>
            </p:nvSpPr>
            <p:spPr>
              <a:xfrm>
                <a:off x="2491200" y="2286000"/>
                <a:ext cx="131976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" name="Rectangle 9"/>
              <p:cNvSpPr/>
              <p:nvPr/>
            </p:nvSpPr>
            <p:spPr>
              <a:xfrm>
                <a:off x="4691520" y="2286000"/>
                <a:ext cx="132084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" name="Rectangle 10"/>
              <p:cNvSpPr/>
              <p:nvPr/>
            </p:nvSpPr>
            <p:spPr>
              <a:xfrm>
                <a:off x="6893640" y="2286000"/>
                <a:ext cx="132084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8" name="AutoShape 11"/>
              <p:cNvSpPr/>
              <p:nvPr/>
            </p:nvSpPr>
            <p:spPr>
              <a:xfrm>
                <a:off x="2272320" y="2152080"/>
                <a:ext cx="176004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思考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9" name="AutoShape 12"/>
              <p:cNvSpPr/>
              <p:nvPr/>
            </p:nvSpPr>
            <p:spPr>
              <a:xfrm>
                <a:off x="2272320" y="3083760"/>
                <a:ext cx="1760040" cy="119556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信奉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0" name="AutoShape 13"/>
              <p:cNvSpPr/>
              <p:nvPr/>
            </p:nvSpPr>
            <p:spPr>
              <a:xfrm>
                <a:off x="4376880" y="2500200"/>
                <a:ext cx="175860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成就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" name="AutoShape 14"/>
              <p:cNvSpPr/>
              <p:nvPr/>
            </p:nvSpPr>
            <p:spPr>
              <a:xfrm>
                <a:off x="4472640" y="3215520"/>
                <a:ext cx="175896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奋争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" name="AutoShape 15"/>
              <p:cNvSpPr/>
              <p:nvPr/>
            </p:nvSpPr>
            <p:spPr>
              <a:xfrm>
                <a:off x="4472640" y="4014360"/>
                <a:ext cx="1758960" cy="11948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求存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" name="AutoShape 16"/>
              <p:cNvSpPr/>
              <p:nvPr/>
            </p:nvSpPr>
            <p:spPr>
              <a:xfrm>
                <a:off x="6673320" y="2152080"/>
                <a:ext cx="1758960" cy="11977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体验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4" name="AutoShape 17"/>
              <p:cNvSpPr/>
              <p:nvPr/>
            </p:nvSpPr>
            <p:spPr>
              <a:xfrm>
                <a:off x="6673320" y="2950200"/>
                <a:ext cx="1758960" cy="11977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制造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5" name="Rectangle 18"/>
              <p:cNvSpPr/>
              <p:nvPr/>
            </p:nvSpPr>
            <p:spPr>
              <a:xfrm>
                <a:off x="1171440" y="5209200"/>
                <a:ext cx="66132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低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6" name="Rectangle 19"/>
              <p:cNvSpPr/>
              <p:nvPr/>
            </p:nvSpPr>
            <p:spPr>
              <a:xfrm>
                <a:off x="732600" y="2286000"/>
                <a:ext cx="660240" cy="278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资源丰富程度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7" name="Rectangle 20"/>
            <p:cNvSpPr/>
            <p:nvPr/>
          </p:nvSpPr>
          <p:spPr>
            <a:xfrm>
              <a:off x="2712960" y="5475960"/>
              <a:ext cx="109836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理想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Rectangle 21"/>
            <p:cNvSpPr/>
            <p:nvPr/>
          </p:nvSpPr>
          <p:spPr>
            <a:xfrm>
              <a:off x="4912560" y="5475960"/>
              <a:ext cx="109944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就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Rectangle 22"/>
            <p:cNvSpPr/>
            <p:nvPr/>
          </p:nvSpPr>
          <p:spPr>
            <a:xfrm>
              <a:off x="7112880" y="5475960"/>
              <a:ext cx="109944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自我表达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AutoShape 23"/>
            <p:cNvSpPr/>
            <p:nvPr/>
          </p:nvSpPr>
          <p:spPr>
            <a:xfrm>
              <a:off x="4377600" y="1628640"/>
              <a:ext cx="1758600" cy="11977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创新者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385B-FA17-469B-867E-1F65DF82577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39640" y="1267920"/>
            <a:ext cx="81583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个人因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决策影响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产品变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468360" y="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-ICP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1332000" y="2997360"/>
            <a:ext cx="7488000" cy="3168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F8A4-8FCE-4972-A115-B34F82D0B05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个性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619280" y="1988640"/>
            <a:ext cx="70675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个性概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个性与消费者行为的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6A72-4FDD-4815-B47F-6880D188120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179280" y="189000"/>
            <a:ext cx="75438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ina--Vals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模型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5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7343640" cy="5545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AB92-3351-4C7B-8768-3E095D20BD2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生活方式研究在消费者行为中的作用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692000" y="2708280"/>
            <a:ext cx="67784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市场细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品牌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广告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5C5E-4B5E-42F4-B207-1952FB164E1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个性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26920" y="1483920"/>
            <a:ext cx="78710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决定和反映个人如何适应环境的内在心理特征，包括使某一个体与其他个体相区别的具体特质、属性、特征、因素和态度等多个方面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Schiffman &amp; Kanuk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的特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差异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稳定性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塑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F2A6-4640-4110-9FF1-BEF282D6498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个性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547640" y="1844640"/>
            <a:ext cx="73249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购买前的信息收集阶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商店的选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喜爱售货员的类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消费者的个性与品牌的选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FBDA-DB0C-4FFE-AECE-D9033C9F0E5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个性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68" name="Group 325"/>
          <p:cNvGrpSpPr/>
          <p:nvPr/>
        </p:nvGrpSpPr>
        <p:grpSpPr>
          <a:xfrm>
            <a:off x="539640" y="1844640"/>
            <a:ext cx="8135640" cy="3673080"/>
            <a:chOff x="539640" y="1844640"/>
            <a:chExt cx="8135640" cy="3673080"/>
          </a:xfrm>
        </p:grpSpPr>
        <p:sp>
          <p:nvSpPr>
            <p:cNvPr id="169" name="Rectangle 326"/>
            <p:cNvSpPr/>
            <p:nvPr/>
          </p:nvSpPr>
          <p:spPr>
            <a:xfrm>
              <a:off x="3714840" y="1844640"/>
              <a:ext cx="218376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品牌个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Rectangle 327"/>
            <p:cNvSpPr/>
            <p:nvPr/>
          </p:nvSpPr>
          <p:spPr>
            <a:xfrm>
              <a:off x="539640" y="2890080"/>
              <a:ext cx="119052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诚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Rectangle 328"/>
            <p:cNvSpPr/>
            <p:nvPr/>
          </p:nvSpPr>
          <p:spPr>
            <a:xfrm>
              <a:off x="2324880" y="2890080"/>
              <a:ext cx="118908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活力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Rectangle 329"/>
            <p:cNvSpPr/>
            <p:nvPr/>
          </p:nvSpPr>
          <p:spPr>
            <a:xfrm>
              <a:off x="4111560" y="2890080"/>
              <a:ext cx="118800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能力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Rectangle 330"/>
            <p:cNvSpPr/>
            <p:nvPr/>
          </p:nvSpPr>
          <p:spPr>
            <a:xfrm>
              <a:off x="5898600" y="2890080"/>
              <a:ext cx="118764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熟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Rectangle 331"/>
            <p:cNvSpPr/>
            <p:nvPr/>
          </p:nvSpPr>
          <p:spPr>
            <a:xfrm>
              <a:off x="7486200" y="2890080"/>
              <a:ext cx="118764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强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Rectangle 332"/>
            <p:cNvSpPr/>
            <p:nvPr/>
          </p:nvSpPr>
          <p:spPr>
            <a:xfrm>
              <a:off x="2123280" y="3935880"/>
              <a:ext cx="1583640" cy="158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活泼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勇敢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想象力丰富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时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Rectangle 333"/>
            <p:cNvSpPr/>
            <p:nvPr/>
          </p:nvSpPr>
          <p:spPr>
            <a:xfrm>
              <a:off x="539640" y="3935880"/>
              <a:ext cx="1188000" cy="149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诚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务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欢乐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Rectangle 334"/>
            <p:cNvSpPr/>
            <p:nvPr/>
          </p:nvSpPr>
          <p:spPr>
            <a:xfrm>
              <a:off x="4111560" y="3935880"/>
              <a:ext cx="1188000" cy="134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智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可信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功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Rectangle 335"/>
            <p:cNvSpPr/>
            <p:nvPr/>
          </p:nvSpPr>
          <p:spPr>
            <a:xfrm>
              <a:off x="5897160" y="3935880"/>
              <a:ext cx="1190520" cy="122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迷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高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Rectangle 336"/>
            <p:cNvSpPr/>
            <p:nvPr/>
          </p:nvSpPr>
          <p:spPr>
            <a:xfrm>
              <a:off x="7486200" y="3935880"/>
              <a:ext cx="1189080" cy="114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坚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户外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180" name="AutoShape 337"/>
            <p:cNvCxnSpPr/>
            <p:nvPr/>
          </p:nvCxnSpPr>
          <p:spPr>
            <a:xfrm rot="5400000">
              <a:off x="4604760" y="-581760"/>
              <a:ext cx="1440" cy="694476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1" name="AutoShape 338"/>
            <p:cNvCxnSpPr/>
            <p:nvPr/>
          </p:nvCxnSpPr>
          <p:spPr>
            <a:xfrm flipH="1">
              <a:off x="1133280" y="3337560"/>
              <a:ext cx="180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AutoShape 339"/>
            <p:cNvCxnSpPr/>
            <p:nvPr/>
          </p:nvCxnSpPr>
          <p:spPr>
            <a:xfrm flipH="1">
              <a:off x="2918880" y="3338280"/>
              <a:ext cx="324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AutoShape 340"/>
            <p:cNvCxnSpPr/>
            <p:nvPr/>
          </p:nvCxnSpPr>
          <p:spPr>
            <a:xfrm flipH="1">
              <a:off x="4705560" y="3338280"/>
              <a:ext cx="468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AutoShape 341"/>
            <p:cNvCxnSpPr/>
            <p:nvPr/>
          </p:nvCxnSpPr>
          <p:spPr>
            <a:xfrm flipH="1">
              <a:off x="6493320" y="3338280"/>
              <a:ext cx="396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AutoShape 342"/>
            <p:cNvCxnSpPr/>
            <p:nvPr/>
          </p:nvCxnSpPr>
          <p:spPr>
            <a:xfrm flipH="1">
              <a:off x="8080920" y="3338280"/>
              <a:ext cx="396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AutoShape 343"/>
            <p:cNvCxnSpPr/>
            <p:nvPr/>
          </p:nvCxnSpPr>
          <p:spPr>
            <a:xfrm>
              <a:off x="2919240" y="2591280"/>
              <a:ext cx="1800" cy="29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AutoShape 344"/>
            <p:cNvCxnSpPr/>
            <p:nvPr/>
          </p:nvCxnSpPr>
          <p:spPr>
            <a:xfrm>
              <a:off x="6492960" y="2591280"/>
              <a:ext cx="3240" cy="29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8" name="Line 345"/>
            <p:cNvSpPr/>
            <p:nvPr/>
          </p:nvSpPr>
          <p:spPr>
            <a:xfrm>
              <a:off x="4706280" y="2292120"/>
              <a:ext cx="0" cy="59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FA21-CE69-4889-8BE6-193366D5E19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自我概念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050560" y="1928880"/>
            <a:ext cx="68216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自我概念概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自我概念的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自我概念的营销启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四、自我概念的测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2A68-7A0E-4FF6-8C59-35DEFC329D3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自我概念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23640" y="1413000"/>
            <a:ext cx="85690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概念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也称为自我形象，是指个人对自己的能力、气质、性格等个性特征的感知、态度和自我评价，即个体如何看待自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消费者的自我概念的形成过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自己的观察推断自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他人对自己的评价形成自我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社会比较形成自我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70C3-9EA9-41DA-91D1-9A37843A8FE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61508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自我概念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95280" y="1052640"/>
            <a:ext cx="8569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概念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830880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C792-04E8-4FFE-988E-3128929D2AF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自我概念的理论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矩形 7"/>
          <p:cNvSpPr/>
          <p:nvPr/>
        </p:nvSpPr>
        <p:spPr>
          <a:xfrm>
            <a:off x="539640" y="1052640"/>
            <a:ext cx="784872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强化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概念对个体有价值，个体行为趋向于维护和强化自我概念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环境自我概念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在特定的环境下，希望他人如何看待自己。包括与自己相联系的态度、知觉和情感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形象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品形象一致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包含形象意义的产品通常会激发包含同样形象的自我概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3:34:19Z</dcterms:created>
  <dc:creator>zhangbo</dc:creator>
  <dc:description/>
  <dc:language>en-US</dc:language>
  <cp:lastModifiedBy>Administrator</cp:lastModifiedBy>
  <dcterms:modified xsi:type="dcterms:W3CDTF">2015-09-02T09:41:47Z</dcterms:modified>
  <cp:revision>37</cp:revision>
  <dc:subject/>
  <dc:title>第三章 消费者的个性、自我概念与生活方式</dc:title>
</cp:coreProperties>
</file>